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B368-E116-4989-A6DD-1DD67C7BF9E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 views on Government, Economics and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and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Women, Blacks and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n into a family of weal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mas Jeffers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’s View on Gover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supporter of state’s righ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had witnessed the abuses of European k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’s View on Governm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Agrarian Ec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lieves that we should be a nation of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 are tied to the land and self suffici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An Agrarian Econom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 on Human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 on Human Nature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ughts on Foreign Rel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Revolution turns bloody but Republicans still support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ctions horrified the Washington Presidenc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oughts on Foreign Relation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rench R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The French Revolution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ws on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truggled with the pure thought of politically equal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ly white males participate in governmen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Views on Opportun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A58D-0941-4798-AF61-FCB4734DC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B1D2-8457-4177-953B-1747AF6D1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69FC-FD52-4739-BB96-2AACE1C5B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DA8B-E979-4D8C-8D14-A575705F0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0DC-CD6C-4B39-AD79-248C075E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CE3E-17BD-4F60-BB2C-A04EB7C0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20E4-6E4E-4DE5-9ED0-6C4DD2AA6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50C4-0D61-42A2-894D-2559E5F1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BDD-4DE4-4B23-9376-1D194054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9071-250D-41A4-BF57-D4E8E3D8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9B88-EDED-4233-915A-242B7974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4F21-6229-4627-B716-08AFFA9F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6A7D7-FE6E-4D16-B907-5C5DBDA92CB3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metmuseum.org/works_of_art/viewOnezoom.asp?dep=2&amp;zoomFlag=1&amp;viewmode=0&amp;item=62%2E79%2E2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His views on Government, Economics and Human Nature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Jefferson and Foreign Relation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On Women, Blacks and Opportunit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mas Jeffers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orn into a family of wealth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represents the Republicans party, they are strict constructionists and supporters of state governmen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3" name="Picture 11" descr="http://www.gwu.edu/~ffcp/exhibit/p9/p9_2amed.jpg"/>
          <p:cNvPicPr/>
          <p:nvPr/>
        </p:nvPicPr>
        <p:blipFill>
          <a:blip r:embed="rId1"/>
          <a:stretch/>
        </p:blipFill>
        <p:spPr>
          <a:xfrm>
            <a:off x="5068800" y="1981080"/>
            <a:ext cx="32720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Jefferson’s View on Governmen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trong supporter of state’s righ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had witnessed the abuses of European k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Jefferson believes that state governments represent the people better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http://rds.yahoo.com/S=96062883/K=capital+hill/v=2/SID=e/l=IVS/SIG=12fjboh8t/EXP=1105578179/*-http%3A//www.rotary5520.org/eastelpaso/Capital%20Hill%20I.jpg"/>
          <p:cNvPicPr/>
          <p:nvPr/>
        </p:nvPicPr>
        <p:blipFill>
          <a:blip r:embed="rId1"/>
          <a:stretch/>
        </p:blipFill>
        <p:spPr>
          <a:xfrm>
            <a:off x="5072040" y="1981080"/>
            <a:ext cx="3309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An Agrarian Econom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He believes that we should be a nation of farmer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less likely to be corrupt and self-serving like merchants and business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Farmers are tied to the land and self sufficient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1" name="Picture 7" descr="http://www.currierandives.info/Americana/American-farm.gif"/>
          <p:cNvPicPr/>
          <p:nvPr/>
        </p:nvPicPr>
        <p:blipFill>
          <a:blip r:embed="rId1"/>
          <a:stretch/>
        </p:blipFill>
        <p:spPr>
          <a:xfrm>
            <a:off x="4648320" y="2209680"/>
            <a:ext cx="380988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 on Human Natur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Believed that the “people” as long as they were educated could be trusted with power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The “citizen” according to Jefferson was the bastion of democrac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5" name="Picture 7" descr="http://rds.yahoo.com/S=96062883/K=thomas+jefferson/v=2/SID=e/l=IVI/SIG=13ks8u0l2/EXP=1105584502/*-http%3A//oncampus.richmond.edu/academics/education/projects/webquests/patriot/images/jefferson.jpg"/>
          <p:cNvPicPr/>
          <p:nvPr/>
        </p:nvPicPr>
        <p:blipFill>
          <a:blip r:embed="rId1"/>
          <a:stretch/>
        </p:blipFill>
        <p:spPr>
          <a:xfrm>
            <a:off x="4857840" y="1981080"/>
            <a:ext cx="3390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oughts on Foreign Relation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Supported the French Revolution because it was a revolt of the poor class against the monarchy and the elite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 Revolution turns bloody but Republicans still support it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ese actions horrified the Washington Presidenc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69" name="Picture 11" descr="http://rds.yahoo.com/S=96062883/K=louis+xvi/v=2/SID=e/l=IVS/SIG=121auhv1h/EXP=1105582607/*-http%3A//www.paulauger.com/images/Louis16LG.gif"/>
          <p:cNvPicPr/>
          <p:nvPr/>
        </p:nvPicPr>
        <p:blipFill>
          <a:blip r:embed="rId1"/>
          <a:stretch/>
        </p:blipFill>
        <p:spPr>
          <a:xfrm>
            <a:off x="5114880" y="1981080"/>
            <a:ext cx="32670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3" name="Picture 7" descr="http://rds.yahoo.com/S=96062883/K=french+revolution/v=2/SID=e/l=IVS/SIG=134qi84le/EXP=1105582948/*-http%3A//academic.brooklyn.cuny.edu/history/virtual/portrait/louis16-execution.jpg"/>
          <p:cNvPicPr/>
          <p:nvPr/>
        </p:nvPicPr>
        <p:blipFill>
          <a:blip r:embed="rId1"/>
          <a:stretch/>
        </p:blipFill>
        <p:spPr>
          <a:xfrm>
            <a:off x="609480" y="1981080"/>
            <a:ext cx="34783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4" name="Picture 11" descr="http://www.stormfront.org/whitehistory/hwr27_files/naphorse.jpg"/>
          <p:cNvPicPr/>
          <p:nvPr/>
        </p:nvPicPr>
        <p:blipFill>
          <a:blip r:embed="rId2"/>
          <a:stretch/>
        </p:blipFill>
        <p:spPr>
          <a:xfrm>
            <a:off x="4800600" y="2057400"/>
            <a:ext cx="365760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The French Revolutio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8" name="Picture 1033" descr="http://members.tripod.com/~Motomom/Guillotine.jpg"/>
          <p:cNvPicPr/>
          <p:nvPr/>
        </p:nvPicPr>
        <p:blipFill>
          <a:blip r:embed="rId1"/>
          <a:stretch/>
        </p:blipFill>
        <p:spPr>
          <a:xfrm>
            <a:off x="5181480" y="2057400"/>
            <a:ext cx="335304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79" name="Picture 1037" descr="http://fr.wikipedia.org/upload/3/3a/Dessin_prise_de_la_Bastille.jpg"/>
          <p:cNvPicPr/>
          <p:nvPr/>
        </p:nvPicPr>
        <p:blipFill>
          <a:blip r:embed="rId2"/>
          <a:stretch/>
        </p:blipFill>
        <p:spPr>
          <a:xfrm>
            <a:off x="685800" y="2057400"/>
            <a:ext cx="388620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Views on Opportunity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He struggled with the pure thought of politically equality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Women he believed were too innocent, blacks weak minded and Indians were a hindrance to progress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Only white males participate in government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3" name="Picture 11" descr="Click to zoom">
            <a:hlinkClick r:id="rId1"/>
          </p:cNvPr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911840" y="1981080"/>
            <a:ext cx="328284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00:11:38Z</dcterms:created>
  <dc:creator>Preferred Customer</dc:creator>
  <dc:description/>
  <dc:language>en-US</dc:language>
  <cp:lastModifiedBy>Legion</cp:lastModifiedBy>
  <dcterms:modified xsi:type="dcterms:W3CDTF">2017-07-06T06:44:26Z</dcterms:modified>
  <cp:revision>17</cp:revision>
  <dc:subject/>
  <dc:title>Thomas Jefferson</dc:title>
</cp:coreProperties>
</file>